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8452-5A07-433B-AE32-BCD89F8E4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BCCD-D84D-44A7-A1BF-5040BFFD1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87AC-A4FB-4F4A-BF51-D3E7D1312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5FA2-8FF2-471E-B0B2-002B45539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4CBC5-03B5-4B3B-85A6-EA189E067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426AC-F56A-4991-AAD8-479E42976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06C27-2DF6-4FBB-896C-F6F0B097F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92FBD-FD50-4635-AD98-7C300C2E0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AAA4C-C3F1-436D-A2DF-984428594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61DDC-545A-40F3-8E90-A570EEEEB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A09AA-DB17-4883-9DA4-9EC3C9FCB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1524-2B24-4FAD-B82A-B4B4B009D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D2FD2-1295-4854-93EC-89B328848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B4917-83D7-4A1A-8974-DDB29F1B2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C2649-8918-49F1-B484-ECAC3B771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71CEE-BB52-4B13-B803-1085807A8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1B447-C266-4A9A-A8C6-D369E8CA3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5650-CDE2-4282-96DE-952B9309D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F174-141F-4126-8633-0D2115342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EF15-8B24-4DA9-9E04-67303AFC8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238B-0D1C-4F37-9C90-03787E258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8498-8E86-4D81-80FF-EA083E476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F0E7-9702-4CBE-AA43-12A1AA072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0FD5-D6E7-4851-A476-D98065542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36C16-D41E-4789-A32D-6073B7F7DBF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77FFC-EC0F-4B38-85F2-5915761A362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ps.gov/hps/abpp/battles/ga004.htm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9383b3"/>
                </a:solidFill>
                <a:latin typeface="Tahoma"/>
              </a:rPr>
              <a:t>Chickamauga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fa9b7"/>
                </a:solidFill>
                <a:latin typeface="Tahoma"/>
              </a:rPr>
              <a:t>By: Serra Googi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General Inform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301680" y="1599840"/>
            <a:ext cx="4194000" cy="21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 algn="ctr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Nor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29680" indent="-22968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asualties- 16,170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29680" indent="-22968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,657 kill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29680" indent="-22968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9,756 wound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29680" indent="-22968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,757 captured/missing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29680" indent="-22968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mmanders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29680" indent="-22968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jor General William S. Rosecra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29680" indent="-22968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jor General George H. Thoma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29680" indent="-22968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648320" y="1599840"/>
            <a:ext cx="4194000" cy="21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 algn="ctr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ou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29680" indent="-22968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asualties- 18,4542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29680" indent="-22968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12 kill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29680" indent="-22968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4,674 wound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29680" indent="-22968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,468 captured/missing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29680" indent="-22968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mmanders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29680" indent="-22968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eneral Braxton Brag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29680" indent="-22968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t. General James Longstree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29680" indent="-22968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3925440"/>
            <a:ext cx="8540640" cy="21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3657600" y="1752480"/>
            <a:ext cx="816120" cy="114300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2"/>
          <a:stretch/>
        </p:blipFill>
        <p:spPr>
          <a:xfrm>
            <a:off x="7772400" y="1752480"/>
            <a:ext cx="835200" cy="114300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3"/>
          <a:stretch/>
        </p:blipFill>
        <p:spPr>
          <a:xfrm>
            <a:off x="6629400" y="5029200"/>
            <a:ext cx="2019240" cy="133200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4"/>
          <a:stretch/>
        </p:blipFill>
        <p:spPr>
          <a:xfrm>
            <a:off x="2057400" y="5334120"/>
            <a:ext cx="1828800" cy="12189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5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5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500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500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5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500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500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500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500"/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500"/>
                                        <p:tgtEl>
                                          <p:spTgt spid="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500"/>
                                        <p:tgtEl>
                                          <p:spTgt spid="3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500"/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500"/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500"/>
                                        <p:tgtEl>
                                          <p:spTgt spid="3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etail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540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ook place in Catoosa County and Walker count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asted September 19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and 2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 186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rst day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either side gained any real advantage on the first da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outh sent multiple attacks but they were defeated each tim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cond day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oth sides were constantly shifting positions so the other didn’t know their exact position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osecrans, who wasn’t sure himself of the location of his troops, was misinformed of a gap in his lin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e quickly sent General Thomas Wood and his troops to fill the supposed ga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stead of filling a gap, this created a real gaping hol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ongstreet too advantage of this mistake and lead his men though the ga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ne third of the North’s army, including Rosecrans, was pushed out of the field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omas then took over, his men held until dark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e then took his men to Chattanooga giving the fighting field to the Sout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ded in a Confederate victor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mb dir="vert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9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9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4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eferenc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1680" y="914040"/>
            <a:ext cx="854064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http://www.nps.gov/hps/abpp/battles/ga004.ht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militaryhistory.about.com/gi/o.htm?zi=1/XJ&amp;zTi=1&amp;sdn=militaryhistory&amp;cdn=education&amp;tm=172&amp;gps=253_603_1276_812&amp;f=00&amp;tt=11&amp;bt=0&amp;bts=0&amp;zu=http%3A//www.civilwarhome.com/chickama.ht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icture of Rosecrans-http://www.google.com/search?um=1&amp;hl=en&amp;rls=com.microsoft:en-us:IE-SearchBox&amp;rlz=1I7ADSA_en&amp;tbm=isch&amp;q=braxton+bragg&amp;revid=1125856427&amp;sa=X&amp;ei=yMNrTvH1G4-tgQfk35D_BQ&amp;ved=0CDsQ1QIoAQ&amp;biw=1280&amp;bih=81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icture of Bragg-</a:t>
            </a:r>
            <a:r>
              <a:rPr b="0" lang="en-US" sz="1800" spc="-1" strike="noStrike" u="sng">
                <a:solidFill>
                  <a:srgbClr val="a3c145"/>
                </a:solidFill>
                <a:uFillTx/>
                <a:latin typeface="Tahoma"/>
              </a:rPr>
              <a:t>http://www.google.com/search?um=1&amp;hl=en&amp;rls=com.microsoft%3Aen-us%3AIE-SearchBox&amp;rlz=1I7ADSA_en&amp;biw=1280&amp;bih=816&amp;tbm=isch&amp;sa=1&amp;q=William+S.+Rosecrans&amp;oq=William+S.+Rosecrans&amp;aq=f&amp;aqi=&amp;aql=&amp;gs_sm=e&amp;gs_upl=26686l50309l0l53934l24l24l0l13l13l0l360l3140l2-7.4l11l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6" dur="500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500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8T01:50:09Z</dcterms:created>
  <dc:creator>Googins</dc:creator>
  <dc:description/>
  <dc:language>en-US</dc:language>
  <cp:lastModifiedBy>Googins</cp:lastModifiedBy>
  <dcterms:modified xsi:type="dcterms:W3CDTF">2011-09-15T02:42:14Z</dcterms:modified>
  <cp:revision>6</cp:revision>
  <dc:subject/>
  <dc:title>Chickamauga</dc:title>
</cp:coreProperties>
</file>